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26A-6FD2-4736-AACC-D866BBD0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01A-C55D-4069-80BF-14B9F72C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3A6-53C7-4BCD-BBD3-ED926772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6A9-6526-412B-B770-3E25D00C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050-3237-47F2-9305-B7CA2E86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29A-8EB8-4D52-99A4-646AB9BB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F86-BEBF-449B-8985-EF226238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B37-CBD0-49A4-BE81-B5DB95F6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D2C-51DE-4D55-825E-30650275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0A2-F839-4CF5-968C-539AA76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1BF-40F0-4EF0-B751-B391123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B7B-8F70-43CE-A985-FC42444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4D1C-7E9B-41CB-832E-B4345B0CD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7:16:55Z</dcterms:created>
  <dc:creator>Grupo Editorial</dc:creator>
  <dc:description/>
  <dc:language>en-US</dc:language>
  <cp:lastModifiedBy>Grupo Editorial</cp:lastModifiedBy>
  <dcterms:modified xsi:type="dcterms:W3CDTF">2001-11-21T17:21:49Z</dcterms:modified>
  <cp:revision>1</cp:revision>
  <dc:subject/>
  <dc:title>Sin título de diapositiva</dc:title>
</cp:coreProperties>
</file>